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8E2A-954D-4F7C-B1B0-EE10B7B69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E423-D432-4D6B-8A28-B52A12F5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C33A-ACBB-49CC-B418-8868D51AF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C784-9BEB-41A9-9241-EF4EB59B1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570C-CAC1-4B2C-A0D2-F5D639E3D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BEA0-BD4B-4EC8-B759-DB86B8DA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599F-A173-44EB-A0F3-FBBDD1CE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8322-F062-459A-BD72-FB29F889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1F68E-E42E-4EC4-BC9B-E5831907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06284-EFB6-43CF-A1AA-35136174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FF39-D737-40F2-A99D-DECB215E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8743-1CAC-466E-89B3-190A2B77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FD93-9B5E-4979-92F6-58710419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B2BB-79C7-4C52-9EC3-7B73F82F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942E3-A90D-4D9F-98AF-D2F73350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BAC9-E25B-43DC-99D2-C03F96684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43E9-ED14-43D0-BCFE-DE62F2571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ECAC-DAFE-4F02-BF92-5FA3B8CE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2F8D-8AD3-4B37-985D-3BA9DF63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68DF-7369-4A60-8312-8E15ACF3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B2B3-BDC9-4C26-A00C-8B97C585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C9C7-11BF-4CDC-8DC5-7DE97B20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5428-8761-443F-A732-91CB79E6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A685-725E-43F9-8282-E845B064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7C84-FBF2-4FFD-B06B-D2283DFBCC6F}" type="slidenum">
              <a:rPr b="1" lang="pt-BR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99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2CAF-319F-4542-ABBD-D198F239E2BE}" type="slidenum">
              <a:rPr b="1" lang="pt-BR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Planejando uma atividade usando mídias digitai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PROFESORAS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: Elisabete e Maria do Carmo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PÚBLICO ALVO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: 2º ano C do Ensino Fundamental da E. M. Brincando de Aprender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427280" y="4723920"/>
            <a:ext cx="45003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cc"/>
                </a:solidFill>
                <a:uFillTx/>
                <a:latin typeface="Book Antiqua"/>
              </a:rPr>
              <a:t>Pesquisa na Internet : Hino da Independência do Brasil comemorando a semana d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cc"/>
                </a:solidFill>
                <a:uFillTx/>
                <a:latin typeface="Book Antiqua"/>
              </a:rPr>
              <a:t>Pátria</a:t>
            </a:r>
            <a:r>
              <a:rPr b="0" i="1" lang="en-US" sz="2800" spc="-1" strike="noStrike" u="sng">
                <a:solidFill>
                  <a:srgbClr val="ffffcc"/>
                </a:solidFill>
                <a:uFillTx/>
                <a:latin typeface="Arial Black"/>
              </a:rPr>
              <a:t>.</a:t>
            </a: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5840" y="2491920"/>
            <a:ext cx="7832880" cy="43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ISCIPLINAS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: Língua Portuguesa, História e Ar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DURAÇÃO: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 1 seman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81640" y="31060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69840" y="324648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DC12047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66600" y="2820960"/>
            <a:ext cx="7389720" cy="24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OBJETI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efletir sobre o que é ser patriota e o amor a Pátria</a:t>
            </a: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ODOLOG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evar os alunos a sala de informática para fazer a pesquis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mpressão do hino e leitur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terpretação textual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anto (entonação do Hino da Independência do Brasil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tividades Gramaticais e ortográficas referente o texto do hino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cursos de Mídias e outr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nterne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mpressor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apel sulfit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parelho de som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áquina digit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D ( do Hino da Independência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Bandeira Nacion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icrof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42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REFERÊNCIA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Arial"/>
              </a:rPr>
              <a:t>www.</a:t>
            </a: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brasil</a:t>
            </a:r>
            <a:r>
              <a:rPr b="0" i="1" lang="pt-BR" sz="2000" spc="-1" strike="noStrike">
                <a:solidFill>
                  <a:srgbClr val="ffffff"/>
                </a:solidFill>
                <a:latin typeface="Arial"/>
              </a:rPr>
              <a:t>escola.com/.../</a:t>
            </a: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hinodaindependencia</a:t>
            </a:r>
            <a:r>
              <a:rPr b="0" i="1" lang="pt-BR" sz="2000" spc="-1" strike="noStrike">
                <a:solidFill>
                  <a:srgbClr val="ffffff"/>
                </a:solidFill>
                <a:latin typeface="Arial"/>
              </a:rPr>
              <a:t>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Arial"/>
              </a:rPr>
              <a:t>www.suapesquisa.com/.../</a:t>
            </a: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hino</a:t>
            </a:r>
            <a:r>
              <a:rPr b="0" i="1" lang="pt-BR" sz="2000" spc="-1" strike="noStrike">
                <a:solidFill>
                  <a:srgbClr val="ffffff"/>
                </a:solidFill>
                <a:latin typeface="Arial"/>
              </a:rPr>
              <a:t>_</a:t>
            </a: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independencia_do_brasil</a:t>
            </a:r>
            <a:r>
              <a:rPr b="0" i="1" lang="pt-BR" sz="2000" spc="-1" strike="noStrike">
                <a:solidFill>
                  <a:srgbClr val="ffffff"/>
                </a:solidFill>
                <a:latin typeface="Arial"/>
              </a:rPr>
              <a:t>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http://pt.wikipedia.org/wiki/Hino_da_Independ%C3%AAncia_do_Bras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Arial"/>
              </a:rPr>
              <a:t>www.youtube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http://superdownloads.uol.com.br/download/37/hino-independencia-brasil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http://letras.terra.com.br/evaristo-ferreira-da-veiga/716500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464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Book Antiqua"/>
              </a:rPr>
              <a:t>Culmiânc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Book Antiqua"/>
              </a:rPr>
              <a:t>Concentração Cívic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Book Antiqua"/>
              </a:rPr>
              <a:t>Apresentações diversas sobre o te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Book Antiqua"/>
              </a:rPr>
              <a:t>Dança, Jogral, Poesia, Exposição de Textos e de Cartazes com ilustração sobre o Hino da Independência do Bras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AVALIAÇÃ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ouve Participação, interesse, avanços, e dificuldades ao navegar e ao manusear o mouse porque os alunos ainda estão aprendendo manusear esses instrument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9480" y="3077280"/>
            <a:ext cx="74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71640" y="2549520"/>
            <a:ext cx="4968720" cy="4087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084720" y="2492280"/>
            <a:ext cx="2808360" cy="1944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084720" y="4581360"/>
            <a:ext cx="2772000" cy="2073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6T14:08:00Z</dcterms:created>
  <dc:creator>Carmen</dc:creator>
  <dc:description/>
  <dc:language>en-US</dc:language>
  <cp:lastModifiedBy>Carmen</cp:lastModifiedBy>
  <dcterms:modified xsi:type="dcterms:W3CDTF">2006-03-27T15:15:23Z</dcterms:modified>
  <cp:revision>4</cp:revision>
  <dc:subject/>
  <dc:title>Planejando uma atividade usando mídias digitais PROFESORAS: Elisabete e Maria do Carmo  PÚBLICO ALVO: 2º ano C do Ensino Fundamental da E. M. Brincando de Aprender</dc:title>
</cp:coreProperties>
</file>